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8240-8086-4FA0-AB6E-AA84AA6F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D01C-C0B0-461F-B9D7-52D64405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BBD-E3A6-4C6C-A270-7422EAC2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8BC8-6CBC-4243-B323-4FEA5A10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8DFC-5398-44DF-8524-0AB3F6E9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9E97-5A41-4553-86A3-ABC278B3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3DB4-7CF1-4F2C-A66F-DA790807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D278-336F-42B3-A81C-4E68E3E7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A567-E066-47DF-BD64-86367D6B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D6FC-4E62-417C-B4CC-B87497D3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56EA-7B07-4C57-8B71-4FCA72A1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9457-66CE-4EA0-8BAE-E96E9CC9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184F-E0BA-4363-8C15-34DA9605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339B-287E-4697-9E65-900C8DB8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A248-CEFC-48CD-AA8C-C97D2E0B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ADAF-F3EA-487A-8C7A-8A487D09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C898-84E5-4834-A848-001B58C9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5EEF-4E31-4522-A6AB-7235DF14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034-A0CC-4A74-BB5E-93B5A877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F17-9A91-41FF-B8C1-45482CBB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83DE-AA1D-44DA-9AC5-17266843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2C60-80F1-4CBB-913C-546EBC40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913-46A6-4329-9209-D697FC1A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976F-AED8-4EAC-8BBF-F6A186C0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7FE3-B6EF-440B-A9A3-DEFD58FF695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9706-6BF0-404E-B97E-7572BDA3A3A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EACK OBAM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♥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IME FOR A CHANGE♥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 advTm="9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♥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AY OF ELECTION♥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N NOVEMVBER 4.2008 HISTORY WAS MADE♥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3733920" y="1523880"/>
            <a:ext cx="3975120" cy="53341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E MADE A CHANGE AND GAVE HOPE TO ALL FRICAIN AND ASIAIN HISPANIC AMERCIAN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HANGE IS COME♥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969160" cy="38163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VERY DAY CHANGE IS IN PROGRESS NOW THATHE IS OUR PRESIDENT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648320" y="2108160"/>
            <a:ext cx="4317840" cy="47498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HE WILL FIGHT FOR HELP IN THE MEDICAL WORLD AND BRAKE ALL BARRIERS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969160" cy="39751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 CHANGE ALL AMERCIANS CAN BE PROUD OF♥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OD BES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MERCI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END♥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5168880" y="1600200"/>
            <a:ext cx="3975120" cy="52578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END LOVE SASH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657600" cy="27385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6:22:41Z</dcterms:created>
  <dc:creator>769579</dc:creator>
  <dc:description/>
  <dc:language>en-US</dc:language>
  <cp:lastModifiedBy>769579</cp:lastModifiedBy>
  <dcterms:modified xsi:type="dcterms:W3CDTF">2008-11-20T16:36:25Z</dcterms:modified>
  <cp:revision>1</cp:revision>
  <dc:subject/>
  <dc:title> BAEACK OBAMA</dc:title>
</cp:coreProperties>
</file>